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1C8-71DA-4265-B4E5-6971DF9C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4D53-3B2E-468B-9279-EE7B26A4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1C8-4CB1-4642-B9DB-277DD2FB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E34-3AC7-433C-B6A5-902B209A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A3E-AB17-4495-8113-EE434118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50C-AB68-462A-BF80-62ED8E4A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82D-5ABD-4166-89EB-E7B8D558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490-26E4-41A4-91CB-76764A6C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4EAC-6951-427E-8932-12E68AE4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0CE-8333-4844-B6AB-1F90040D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2011-B333-4DE5-A968-EC713C32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765-F8C5-4F38-BAA3-A2ED4102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476A-BFC5-4761-B558-4E3E60B13A2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olimery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1" descr="http://www.plastchem.com.pl/pics/plastchem.jpg"/>
          <p:cNvPicPr/>
          <p:nvPr/>
        </p:nvPicPr>
        <p:blipFill>
          <a:blip r:embed="rId1"/>
          <a:stretch/>
        </p:blipFill>
        <p:spPr>
          <a:xfrm>
            <a:off x="5651640" y="1844640"/>
            <a:ext cx="3328920" cy="25970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98280" y="3241800"/>
            <a:ext cx="5247000" cy="361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11280" y="260280"/>
            <a:ext cx="47372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TWORZYWA SZTUCZ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119160" y="333360"/>
            <a:ext cx="5129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Zastosowanie tworzyw sztucznyc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polietylen używany jest do produkcji folii i bute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polistyren służy do wytwarzania np. opakowań, zabawek   i styropian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1332000" y="3213000"/>
            <a:ext cx="2343240" cy="312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3300"/>
                </a:solidFill>
                <a:latin typeface="Arial"/>
              </a:rPr>
              <a:t>Do najczęściej spotykanych tworzyw sztucznych zaliczam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Poliety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Polipropy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Polisty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Polichlorek winy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Ny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Tefl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Zastosowanie tworzyw sztucz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C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polichlorek winylu wykorzystywany jest do produkcji płytek podłogowych, ryn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M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polimetakrylan metylu stosowany do produkcji rur, płyt        i osłon świateł samochodowy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1692360" y="4221000"/>
            <a:ext cx="1752480" cy="2343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17524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Zastosowanie tworzyw sztucz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akeli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używany jest do produkcji gniazd elektryczny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Żywic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poksydow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służą do wytwarzania klej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971640" y="3500280"/>
            <a:ext cx="3124080" cy="180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5076720" y="3141720"/>
            <a:ext cx="33339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iekawostka              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Tef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1197000"/>
            <a:ext cx="8820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echuje go wyjątkowa odporność chemiczna i cieplna, doskonałe właściwości ślizgowe, dobre właściwości mechaniczne i dielektryczne, niepalnoś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stosowanie: do wyrobu urządzeń i aparatury chemicznej, w elektronice i elektrotechnice, w przemyśle maszynowym, samochodowym, papierni-czym, włókienniczy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rostokąt 5"/>
          <p:cNvSpPr/>
          <p:nvPr/>
        </p:nvSpPr>
        <p:spPr>
          <a:xfrm>
            <a:off x="992160" y="45910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3300"/>
                </a:solidFill>
                <a:latin typeface="Arial"/>
              </a:rPr>
              <a:t>Przykłady wyrobów z teflonu: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82" name="Symbol zastępczy zawartości 3" descr="images (8).jpg"/>
          <p:cNvPicPr/>
          <p:nvPr/>
        </p:nvPicPr>
        <p:blipFill>
          <a:blip r:embed="rId1"/>
          <a:stretch/>
        </p:blipFill>
        <p:spPr>
          <a:xfrm>
            <a:off x="1401840" y="4998960"/>
            <a:ext cx="1585800" cy="1584360"/>
          </a:xfrm>
          <a:prstGeom prst="rect">
            <a:avLst/>
          </a:prstGeom>
          <a:ln w="0">
            <a:noFill/>
          </a:ln>
        </p:spPr>
      </p:pic>
      <p:pic>
        <p:nvPicPr>
          <p:cNvPr id="83" name="Obraz 7" descr="pobrane (2).jpg"/>
          <p:cNvPicPr/>
          <p:nvPr/>
        </p:nvPicPr>
        <p:blipFill>
          <a:blip r:embed="rId2"/>
          <a:stretch/>
        </p:blipFill>
        <p:spPr>
          <a:xfrm>
            <a:off x="5742000" y="4151160"/>
            <a:ext cx="3084480" cy="2084400"/>
          </a:xfrm>
          <a:prstGeom prst="rect">
            <a:avLst/>
          </a:prstGeom>
          <a:ln w="0">
            <a:noFill/>
          </a:ln>
        </p:spPr>
      </p:pic>
      <p:pic>
        <p:nvPicPr>
          <p:cNvPr id="84" name="Obraz 8" descr="images (9).jpg"/>
          <p:cNvPicPr/>
          <p:nvPr/>
        </p:nvPicPr>
        <p:blipFill>
          <a:blip r:embed="rId3"/>
          <a:stretch/>
        </p:blipFill>
        <p:spPr>
          <a:xfrm>
            <a:off x="3328920" y="5052960"/>
            <a:ext cx="22543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Recykling tworzyw sztucz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worzywa sztuczne są wartościowym materiałem, który można odzyskać w różnych procesach recyklingu, czyli ponownego przetwarzania zużytych tworzyw sztuczny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cykling pozwala odzyskać surowiec polimerowy i wytworzyć np. bluzy polarowe z przerobionych butelek P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przez przerobienie odpadów na paliwo alternatywne można odzyskać także energię, ponieważ tworzywa sztuczne mają wartość energetyczną porównywalną z węglem kamienn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Recykling tworzyw sztucz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ecykling i odzysk zużytych wyrobów z tworzyw sztucznych jest niezbędny do ochrony naszego środowiska naturalnego, ponieważ tworzywa nie ulegają degradacji (czyli rozkładowi). </a:t>
            </a:r>
            <a:r>
              <a:rPr b="0" lang="pl-PL" sz="3200" spc="-1" strike="noStrike">
                <a:solidFill>
                  <a:srgbClr val="cc3300"/>
                </a:solidFill>
                <a:latin typeface="Arial"/>
              </a:rPr>
              <a:t>Dlatego sortujmy je i  przeznaczajmy do recyklingu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2556000" y="4724280"/>
            <a:ext cx="173340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2"/>
          <a:stretch/>
        </p:blipFill>
        <p:spPr>
          <a:xfrm>
            <a:off x="4716360" y="4941720"/>
            <a:ext cx="1924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907640" y="1484280"/>
            <a:ext cx="51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8000" spc="-1" strike="noStrike">
                <a:solidFill>
                  <a:srgbClr val="cc3300"/>
                </a:solidFill>
                <a:latin typeface="Arial"/>
              </a:rPr>
              <a:t>Dziękuję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gólna charakterystyka tworzyw 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ztuczny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2. Proces wytwar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3. Rodzaje tworzyw sztuczny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4. Zastosowanie tworzyw sztuczny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5. Recykl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ytuł 1"/>
          <p:cNvSpPr/>
          <p:nvPr/>
        </p:nvSpPr>
        <p:spPr>
          <a:xfrm>
            <a:off x="457200" y="254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Co to są tworzywa sztuczne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Ogólna charakterystyka tworzyw sztucz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worzywa sztuczn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to materiały składające się z </a:t>
            </a: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limerów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syntetycznych lub naturalnych oraz dodatków nadających im odpowiednie właściwoś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worzywa sztuczne spotykamy na każdym kroku, zastępują one wiele materiałów naturalnych i są powszechnie stosowane. Dzięki dużej plastyczności można formować z nich różne przedmio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Proces wytwarz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o produkcji tworzyw sztucznych wykorzystuje się głównie ropę naftową i węgiel kamie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urowce po wydobyciu transportowane są do zakładów wytwórczych, gdzie produkuje się z nich tworzywa sztucz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5076720" y="4540320"/>
            <a:ext cx="30085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Podział tworzyw sztuczny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c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000"/>
                </a:solidFill>
                <a:latin typeface="Arial"/>
              </a:rPr>
              <a:t>Ze względu na pochodzenie podstawowego skład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worzywa sztuczne pochodzenia naturaln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yntetyczne tworzywa sztu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000"/>
                </a:solidFill>
                <a:latin typeface="Arial"/>
              </a:rPr>
              <a:t>Ze względu na fizykochemiczne właściwości przetwórc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worzywa termoplasty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worzywa reaktyw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000"/>
                </a:solidFill>
                <a:latin typeface="Arial"/>
              </a:rPr>
              <a:t>Ze względu na zastosow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strukcyj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lastoplasty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row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włokotwórc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dhezyj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łóknotwórc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pecj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ymbol zastępczy zawartości 2"/>
          <p:cNvSpPr/>
          <p:nvPr/>
        </p:nvSpPr>
        <p:spPr>
          <a:xfrm>
            <a:off x="184320" y="349200"/>
            <a:ext cx="871344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000"/>
                </a:solidFill>
                <a:latin typeface="Arial"/>
              </a:rPr>
              <a:t>Ze względu na właściwości fizykochemiczn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000"/>
                </a:solidFill>
                <a:latin typeface="Arial"/>
              </a:rPr>
              <a:t>plastomer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 polimery, które pod wpływem naprężeń wykazują bardzo małe odkształcenia (mniejsze niż 1%). Do plastomerów zalicza się termoplasty i duroplasty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000"/>
                </a:solidFill>
                <a:latin typeface="Arial"/>
              </a:rPr>
              <a:t>elastomer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tworzywa, które przy małych naprężeniach wykazują duże odkształcenie (do 1000%), można je rozciągać i ściskać, w wyniku czego zmieniają znacznie swój kształt, ale po odjęciu siły wracają do poprzednich kształtów. Elastomery zastąpiły prawie całkowicie kauczuk naturalny, ale znalazły też szereg nowych zastosowań, niedostępnych dla zwykłego kauczuku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000"/>
                </a:solidFill>
                <a:latin typeface="Arial"/>
              </a:rPr>
              <a:t>Ze względu na dodatki, które występują w tworzywi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pełniacze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lastyfikatory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abilizatory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ystatyki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arwniki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datki przeciwścierne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Rodzaje tworzyw sztuczny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ermoplastyczne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 sprężyste, nieodporne na ciepło - pod wpływem temperatury dają się formować na now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ależą do n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E- poliety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S- polisty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CW- polichlorek winy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MM- polimetakry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Rodzaje tworzyw sztuczny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ermoutwardzaln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 utwardzane poprzez działanie wysokiej temperatury, sztywne, twarde, odporne na ciepło, dają się formować tylko raz, np. bake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hemoutwardzaln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 utwardzane poprzez działanie związków chemicznyc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p. żywice epoksyd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Zastosowanie tworzyw sztucz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7656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lorowe i lekkie tworzywa sztuczne spotykamy na  każdym kroku. Zastępują one wiele materiałów naturalny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ają one zastosowanie praktycznie wszędzie, w wielu dziedzinach gospodarki i w życiu codziennym każdego z na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17:47:04Z</dcterms:created>
  <dc:creator>Dorota</dc:creator>
  <dc:description/>
  <dc:language>en-US</dc:language>
  <cp:lastModifiedBy>Dorota</cp:lastModifiedBy>
  <dcterms:modified xsi:type="dcterms:W3CDTF">2013-08-13T16:39:29Z</dcterms:modified>
  <cp:revision>26</cp:revision>
  <dc:subject/>
  <dc:title>TWORZYWA SZTUCZNE</dc:title>
</cp:coreProperties>
</file>